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05E-7AED-4498-A705-1F4AFB3B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F28-3E41-4D8B-B06E-CC0F66E7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8F1-3FC8-4737-8375-FF0E14E3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8C1-4400-4D59-BFD6-363A0947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FCD-FD22-4DA6-899D-DF52531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308-3C26-4D81-B771-C2BB1509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CDF-9E8D-4ECA-ACD9-3F07AAC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75F-DBD7-4BF9-A69F-1E72583C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BAA-9529-4FC7-A8C0-999F6D6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D7F-AC5E-4FBF-AB68-A8A73DFD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696-25AD-4EC8-9A9B-C9039CA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789-91EB-4481-BDE5-26D570E7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CDD5-A9B3-4CC1-8BB6-5B373F1943C9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1680" y="1285920"/>
          <a:ext cx="8205480" cy="4214880"/>
        </p:xfrm>
        <a:graphic>
          <a:graphicData uri="http://schemas.openxmlformats.org/drawingml/2006/table">
            <a:tbl>
              <a:tblPr/>
              <a:tblGrid>
                <a:gridCol w="4179600"/>
                <a:gridCol w="4025880"/>
              </a:tblGrid>
              <a:tr h="820800">
                <a:tc>
                  <a:txBody>
                    <a:bodyPr lIns="83160" rIns="83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순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3160" rIns="83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세부 이미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94080">
                <a:tc>
                  <a:txBody>
                    <a:bodyPr lIns="83160" rIns="83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첨부파일의 압축을 풀어 우축 그림과 같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를 넣는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updat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 안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.pack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파일이 들어있어야 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본체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가 들어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를 삽입한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본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IN MENU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스템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버전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  를 클릭한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가 시작되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“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그레이드 중입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라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표시 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때 전원을 끄면 제품손상의 원인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므로 절대 전원을 끄지 마십시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. “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가 완료 되었습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문구가 뜨면 전원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리셋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그레이드 후 버전 정보 확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스템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버전정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선된 최종 버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우측 그림 참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6"/>
          <p:cNvSpPr/>
          <p:nvPr/>
        </p:nvSpPr>
        <p:spPr>
          <a:xfrm>
            <a:off x="264960" y="174600"/>
            <a:ext cx="69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S/W)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업그레이드 방법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86240" y="2428920"/>
            <a:ext cx="1590840" cy="66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286240" y="3714840"/>
            <a:ext cx="3033720" cy="1349280"/>
          </a:xfrm>
          <a:prstGeom prst="rect">
            <a:avLst/>
          </a:prstGeom>
          <a:ln w="0">
            <a:noFill/>
          </a:ln>
        </p:spPr>
      </p:pic>
      <p:sp>
        <p:nvSpPr>
          <p:cNvPr id="45" name="순서도: 대체 처리 13"/>
          <p:cNvSpPr/>
          <p:nvPr/>
        </p:nvSpPr>
        <p:spPr>
          <a:xfrm>
            <a:off x="6072120" y="2428920"/>
            <a:ext cx="790560" cy="571320"/>
          </a:xfrm>
          <a:prstGeom prst="flowChartAlternateProcess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5:48:29Z</dcterms:created>
  <dc:creator>Trywin 안현철</dc:creator>
  <dc:description/>
  <dc:language>en-US</dc:language>
  <cp:lastModifiedBy>Trywin 안현철</cp:lastModifiedBy>
  <dcterms:modified xsi:type="dcterms:W3CDTF">2009-12-04T05:52:07Z</dcterms:modified>
  <cp:revision>2</cp:revision>
  <dc:subject/>
  <dc:title>슬라이드 1</dc:title>
</cp:coreProperties>
</file>